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8A80-7EC5-4531-B4C3-43E340D6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FEB3-9F0E-4685-8C93-4C7021F9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FE856-F728-4B9C-AB0F-98312840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B703B-6867-40FC-B1ED-6E8A2144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28BF8-12A9-4273-89F4-0238D6F5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F35E0-7351-4E7F-BB30-BB13AAFB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A03E4-DB88-428A-B46B-5D85B4CE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11E20-F01E-42B4-BE27-69DC2960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4C434-9E6B-4E0F-9FE1-B040568A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5AA8F-38C1-48EC-8A9C-9A57F16B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15AA3-4A53-4956-A06F-8A8D2304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0B59B-4C2E-4829-971A-993D3064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E433-2535-4085-A917-65B72F4F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1055B-B642-41CE-B353-69E029B0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DA6FE-1CF6-4AA7-8FB6-EC23FCD2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FCD65-A857-4D9E-BEA0-D783B854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9053D-F421-44E4-8F37-7D036093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FDDAB-E1C3-45A4-8F13-25837B8C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B0DFA-92B7-486D-9C78-DAF93B07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4B14D-964F-42B2-9C8B-65C54A91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F8D2A-03ED-49F9-87A9-63977574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89B18-0A00-4EC6-8F45-9F8F6B20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F987D-A22E-45B0-933F-C756E6E8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E8A5-32AC-4288-A027-C4EF26DE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12248-939F-420C-B13C-80948D7D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421C7-AD1A-491E-AB94-7E002CD3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7C36A-F73E-4DE0-A407-87D888A4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93E28-E5C3-478C-9FAB-61326132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88361-A6C9-493E-A560-1EFB31FD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128B6-08BF-4CB7-8EB9-43E803BC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714FF-77EF-4C37-85AE-2CE86336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E6BAE-B56F-45F5-A1D5-5F163005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8B0C7-32ED-4CCF-BF39-2D6EF777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1EA4E-B815-4FCB-B7F0-208F5628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B5FA-3DA7-41FD-AD05-9BE98244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22763-B1B6-44D2-B776-08A5F25F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BA465-3F90-40E4-B595-88D880C6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BD8D9-EDF2-4158-A317-E1A6E7F8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F2383-BA8A-422E-8297-332E8C20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051DA-76D9-4684-B988-FB9F2EDD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992AD-2D16-42DD-9AB8-0B601F37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91E5C-053B-484C-A1E0-5058150E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1F34A-ABDF-44BA-985E-AA462BB7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0FF22-0F81-4D4B-8DFC-CFEB722A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E0F7A-48C6-4EF8-863F-ECE0DD6A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41E2-8E8A-40FC-A577-360AB9B3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89172-EAAE-4354-A60F-199868DD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7BF22-5CF9-4EE8-8787-8A220F3F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FD4C5A-172C-488C-B8DB-1265DC70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9B27D-B7E7-4672-884E-EB8BBE9C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3097A-CA05-482D-9C50-FC5FC2AF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69D6-1E6D-4743-B3AF-FAE66795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E59A-71E5-406D-82DB-A53C6C21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E9DC-94EA-4D78-B2F3-B780D1AC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DDA3-0C3B-4B94-8CBB-75AD486B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CE71-0D09-48BD-87E4-2991B5D0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13C8-EC17-4A4B-AB91-FFCED2E2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A2F0-76E9-4535-899C-385214B4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B314-D786-4A51-BC3D-F00FC2E3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D99D-C911-4056-9C20-40FD70B5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9501-FF19-4BA9-9259-24253015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275A-9879-480E-A67C-E4438AE2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B03A5-087F-4B72-9953-A2E637F0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E54EE-A7AA-4391-9198-4CCAEA30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B4803-E8EB-47D8-93BD-1D682317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E33A1-A007-42C8-94D5-90412B82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159D8-9AA5-453A-8483-92B37DD1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4AB2-851B-4403-BEA4-6DE06C28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723BC-4A6E-4514-A899-D7AAEAB4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DA857-478E-45FA-83BE-D714E7AD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1846A-6950-43FF-9B58-D9578099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695B1-103E-4C2F-AC66-9D03C6CE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9503C-5F49-4D02-BDD7-232A9EAF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5FE19-93C9-4AE9-93B2-79F0BF66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884BB-47D9-4EB0-85E5-25BF3989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766E0-C750-4434-A4F1-FDB14A42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DB0AD-A36C-47DF-BEFE-F0564E85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68A93-D7DD-4608-B2C7-AD8C1B45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EBAE-9410-48A6-A72E-ED621E55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77EFA-4122-4F35-B159-367EB95F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41F84-C059-4ED4-BC49-FF4A68B5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DDEA6-1398-4C21-8E5B-7634BAE0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99B94-85D6-4EFB-A7E1-0B087682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2B841-5A52-46FD-808C-4EEE1EC8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8FFAC-DF27-4D45-A2D4-900D27FD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C6428-D23E-4832-8998-B97C7002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EB1E1-8589-49DC-B860-3A049A16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0C0BD-B6AF-4904-8832-C73D855C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EEA6A-0288-4AB3-9DCD-760D42B3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F78C-1AC4-4738-B890-C10C3737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8955D-EFFF-43CF-9E2F-2703556C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2F5DA-D45F-4693-9510-5450323E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61034-6874-4833-962D-B12E6C6A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41230-5636-4CCC-AFEA-89FDD793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56784-D9BB-475F-9A64-AC66376A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2C6E8-05BB-4A70-AF01-3C14F7A6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3CE0E-61A8-4C15-B32C-7AFE99A6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97D73-D7FB-476E-992D-78D8E3BB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5E194-6B6D-4A53-8728-AF905F31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136E7-23DF-47C9-9EEE-5EA1624A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FA3E-DE31-4BC0-8E93-90D68A6A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7B5DC-C2A4-4695-B022-12967114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8CFFE-1E8C-4ED6-9B13-EBB37EB7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7205A-1D16-4A7A-9B50-2F16111E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6FD89-84AB-4E4D-87A7-774CFB2B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FD4A7-2E43-44FA-A3C4-D718FC0A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9A33D-AD20-42D8-B4AD-2D08EDB1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FA171-8535-48D6-A223-8E670D10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B6ADB-7005-418C-A197-D2F34B7B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A46AA-939D-48F0-8A77-4A97B64E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D0980-37DD-4ABA-8A1D-50DAC5D6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9558-9311-4272-80F1-CD20754D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2CDF2-6E91-42E6-9E1D-4EF17C52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3C402-D804-47D8-A5A6-C316D435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11AA2-EB82-44B3-8F8E-0FE9463C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48E92-7EF7-4232-B024-8867039E2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74020-3769-43D3-9462-7D0DCB4F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A9EDD-AD89-44B4-A98F-55763648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D0083-65E3-4DAA-8D7A-00B2D56B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E0064-F6E7-466E-A91D-2DC4A18E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2168D-B5C2-48F0-9CE9-6156E200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C9BC8-CAE7-4528-8830-66A940E3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3147-E6AA-4F6C-8DDE-48D910A0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D60AF-01A2-4B77-925B-0BE17C9C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45487-8A91-4145-8924-1C71727C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EDE09-3D71-4EE3-ADB4-B66CCFAB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EC502-B621-4E08-965D-88F8A970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816BA-671A-46C6-A548-F77DCB3D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CAFFA-369C-4DCC-8B2C-DB2B3516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B2DE9-E19F-4BB6-B7BD-ED6BEEDE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A310F-B725-4907-80D6-107BD97E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F1BF3-4E79-4594-8E54-E579B63F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3EA6B-CFC4-44E9-80CE-2FEBBAC5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3C5A-8646-4925-8549-F61CB7A0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6C1A4-345E-47F6-BAC0-F052DE87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DA0BB-D042-4658-9A64-F6110E57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4FCF6-5EED-4C37-997A-C0965FD0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8B058-7EE8-4F2A-BFBA-C5EE482B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F7F56-3DE1-458A-8469-B3AFDC39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60728-B121-4172-98D0-1B0C01A0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E4B64-BD81-4566-A21F-FC7EDA60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47411-B4D9-4650-8E67-C95E47D1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140EE-6DBA-440F-AB4D-66AE2548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8C218-1B84-489D-A3CE-FC0FD8C5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1F78-62D6-4148-9C6A-98F791FE2E6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C88F-AAA2-4AA2-B2C4-160EBF52184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F335-FE52-47B7-8517-064A630B815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7DB8-D4A5-4E16-BE46-5691C6A5425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6220-9AC0-447A-9B84-A08296DC8EF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ED25-3457-49EC-92F0-12459484D27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EE3E-45F7-49CA-9CBF-5EB5CD6F4B6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5F9B-8C96-477D-A53D-80D74D5E8B6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297A-8798-418E-80D6-E71E0CF7B23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2C30-2AEC-4AF0-8261-DF54C185ECA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81A3-7F37-44E0-9341-118D2FD514D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EC8F-C840-4BC0-9D0F-CD95FDFDE2F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3 Čuj nádherné posolstv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k nemu sa utiek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ím viesť sa d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chystá ti večné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mova r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vráti sa čoskor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prav sa dne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 ústrety z vďačn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rdce mu n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a chváľ, s nami chvá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emu ísť neváh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a chváľ, aj ty chvá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rdce svoje mu da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 dôverou vykroč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ešte je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na teba čak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uj dnes jeho hlas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uj nádherné posolstv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om čo z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 v Synovi zoslal n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ykúp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kríži sa sklonil k n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vý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hriešnikov k sebe zv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 všetkých st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a chváľ, s nami chvá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emu ísť neváh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a chváľ, aj ty chvá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rdce svoje mu da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 dôverou vykroč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ešte je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na teba čak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uj dnes jeho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vzdialený Boh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 svojvoľne ž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Ježiš ti na návra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áva dosť sí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iaž hriechu a bremä ví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teba chce sň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 láskou ťa obj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 pokoj ti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a chváľ, s nami chvá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emu ísť neváh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a chváľ, aj ty chvá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rdce svoje mu da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 dôverou vykroč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ešte je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na teba čak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uj dnes jeho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3T18:20:01Z</dcterms:modified>
  <cp:revision>18</cp:revision>
  <dc:subject/>
  <dc:title>Je veľký náš Pán, on slávy je Kráľ Nech do všetkých strán  spev vrúcnych znie chvál.</dc:title>
</cp:coreProperties>
</file>